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gif" ContentType="image/gif"/>
  <Override PartName="/ppt/media/image6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4499-5F9F-4F37-A47E-5E811038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2930-38D9-404E-939E-14522952D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2F52-0BFD-4EFA-9454-9ADC295D6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F017-0FF7-4514-BA0C-E5B044F58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83AD-DA52-4676-A0EC-51EB81D8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the “Team CITE Boot Camp Preparations dog ta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1A18-3048-4DDA-9265-80FA9DE35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F08D-437C-41DF-8CC4-CB6551E20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up into core subject groups.  Large poster paper and markers, answer the questions above.  Indicate grade level, teacher’s names.  Refer them to the Pre-Planning Project Form in their CITE folder.  Pass out “Cooperative Grouping Technology Jobs” for teacher’s to add to their CITE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ECBB-88BF-4ED8-8143-6A405843F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F11-A452-4BF0-8933-4021DBDD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012-4659-4FF9-AA9F-03C154D3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FE3-2770-41E2-902D-6F2D5C01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7A4-3DA4-46A3-BF64-60FBFE16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2A7-627F-4C0D-BCFC-97405B4F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926-3081-4F7B-88A2-6B521E3E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D16-E940-4D3D-B1B3-091BCA19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2D3-EE82-47A0-B2AD-B5FD8088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46E-C25F-4A4B-82D5-F9B9F36D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BA8-73A8-49C1-8A93-102ABF2C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79B-8FFB-4D6E-9741-885BBEC3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309-9CB3-4C17-9487-6B930450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7E04-6F2E-488B-8136-11B451FA9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Integrated Technolog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j0300520"/>
          <p:cNvPicPr/>
          <p:nvPr/>
        </p:nvPicPr>
        <p:blipFill>
          <a:blip r:embed="rId1"/>
          <a:stretch/>
        </p:blipFill>
        <p:spPr>
          <a:xfrm>
            <a:off x="3276720" y="2438280"/>
            <a:ext cx="2666880" cy="229248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6095880" y="304812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 E A M 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295280" y="3048120"/>
            <a:ext cx="1704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 I T 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0" y="60948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com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13 - Track 13.wav" descr=""/>
          <p:cNvPicPr/>
          <p:nvPr/>
        </p:nvPicPr>
        <p:blipFill>
          <a:blip r:embed="rId2"/>
          <a:stretch/>
        </p:blipFill>
        <p:spPr>
          <a:xfrm>
            <a:off x="81532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ara Garcia &amp; Gail 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ntegration Spe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19320" y="3581280"/>
            <a:ext cx="6781680" cy="2531160"/>
          </a:xfrm>
          <a:prstGeom prst="rect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            </a:t>
            </a:r>
            <a:r>
              <a:rPr b="0" i="1" lang="en-US" sz="32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“</a:t>
            </a:r>
            <a:r>
              <a:rPr b="0" i="1" lang="en-US" sz="32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Go Arou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e one typ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you would like to us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your classes thi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3" descr="Forward_3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Forward_3"/>
          <p:cNvPicPr/>
          <p:nvPr/>
        </p:nvPicPr>
        <p:blipFill>
          <a:blip r:embed="rId2"/>
          <a:stretch/>
        </p:blipFill>
        <p:spPr>
          <a:xfrm>
            <a:off x="6781680" y="342900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Forward_3"/>
          <p:cNvPicPr/>
          <p:nvPr/>
        </p:nvPicPr>
        <p:blipFill>
          <a:blip r:embed="rId3"/>
          <a:stretch/>
        </p:blipFill>
        <p:spPr>
          <a:xfrm rot="5400000">
            <a:off x="7657920" y="44575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7" descr="Forward_3"/>
          <p:cNvPicPr/>
          <p:nvPr/>
        </p:nvPicPr>
        <p:blipFill>
          <a:blip r:embed="rId4"/>
          <a:stretch/>
        </p:blipFill>
        <p:spPr>
          <a:xfrm rot="10800000">
            <a:off x="6476760" y="60199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8" descr="Forward_3"/>
          <p:cNvPicPr/>
          <p:nvPr/>
        </p:nvPicPr>
        <p:blipFill>
          <a:blip r:embed="rId5"/>
          <a:stretch/>
        </p:blipFill>
        <p:spPr>
          <a:xfrm rot="10800000">
            <a:off x="3885840" y="60199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Forward_3"/>
          <p:cNvPicPr/>
          <p:nvPr/>
        </p:nvPicPr>
        <p:blipFill>
          <a:blip r:embed="rId6"/>
          <a:stretch/>
        </p:blipFill>
        <p:spPr>
          <a:xfrm rot="10800000">
            <a:off x="1676160" y="60199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Forward_3"/>
          <p:cNvPicPr/>
          <p:nvPr/>
        </p:nvPicPr>
        <p:blipFill>
          <a:blip r:embed="rId7"/>
          <a:stretch/>
        </p:blipFill>
        <p:spPr>
          <a:xfrm rot="16200000">
            <a:off x="838800" y="4494600"/>
            <a:ext cx="76068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Forward_3"/>
          <p:cNvPicPr/>
          <p:nvPr/>
        </p:nvPicPr>
        <p:blipFill>
          <a:blip r:embed="rId8"/>
          <a:stretch/>
        </p:blipFill>
        <p:spPr>
          <a:xfrm>
            <a:off x="6781680" y="342900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Forward_3"/>
          <p:cNvPicPr/>
          <p:nvPr/>
        </p:nvPicPr>
        <p:blipFill>
          <a:blip r:embed="rId9"/>
          <a:stretch/>
        </p:blipFill>
        <p:spPr>
          <a:xfrm>
            <a:off x="4341960" y="3416400"/>
            <a:ext cx="91584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Purpose of Our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cooperative relationship with you as a push-in team m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all of your questions about CITE’s role, boot camp, basic training, and project planning &amp; facil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Identify project ideas and estimate time frame by marking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Boot Camp Prep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8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new students to our school district (email us names, grade level, &amp; ID #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Trip” to the computer lab so students know where to report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s should always report directly to the computer l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ITE with a printout of your team’s student names and student ID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students to come prepared with an alternate password (word and/or #s – 6 characters maxim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your core teaching schedule to send us no more than 30 students at a time for 1 block as indicated on your boot camp cale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absent will make up Boot Cam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____________________ during Block _________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1364690000[1]"/>
          <p:cNvPicPr/>
          <p:nvPr/>
        </p:nvPicPr>
        <p:blipFill>
          <a:blip r:embed="rId1"/>
          <a:stretch/>
        </p:blipFill>
        <p:spPr>
          <a:xfrm>
            <a:off x="7315200" y="2133720"/>
            <a:ext cx="16225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Basic Trai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320" y="1219320"/>
            <a:ext cx="6782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same as boot camp for 3 blocks with 60 students at a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raining on “must know skills” in Word, Excel, PowerPoint, Publisher, etc. to ensure that all students have the basic training  necessary to be productive in compu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raining in Internet Research techniques and Internet Saf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raining on Copyright Laws and MLA report and reference citations format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dapted for each grade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Cj01364750000[1]"/>
          <p:cNvPicPr/>
          <p:nvPr/>
        </p:nvPicPr>
        <p:blipFill>
          <a:blip r:embed="rId1"/>
          <a:stretch/>
        </p:blipFill>
        <p:spPr>
          <a:xfrm>
            <a:off x="152280" y="2133720"/>
            <a:ext cx="214956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Project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934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Curriculum -- Major Top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Non-Technology Pro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roject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Marking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Cj01363250000[1]"/>
          <p:cNvPicPr/>
          <p:nvPr/>
        </p:nvPicPr>
        <p:blipFill>
          <a:blip r:embed="rId1"/>
          <a:srcRect l="30379" t="0" r="0" b="0"/>
          <a:stretch/>
        </p:blipFill>
        <p:spPr>
          <a:xfrm>
            <a:off x="6324480" y="1600200"/>
            <a:ext cx="2819520" cy="4151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76920" y="40384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9"/>
          <p:cNvSpPr/>
          <p:nvPr/>
        </p:nvSpPr>
        <p:spPr>
          <a:xfrm>
            <a:off x="4952880" y="3962520"/>
            <a:ext cx="1447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mportan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1483920"/>
            <a:ext cx="86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plan on having your students logon to 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Boot Camp, they must use the follow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er name = ##-lastf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ear graduate – 5 letters of last name 3 letters of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Password = student ID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Log On To = Souderto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Example:  Jaqueline Jones  =  15-jonesja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and students must always save to the </a:t>
            </a:r>
            <a:r>
              <a:rPr b="1" i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“P” dr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files on  any computer in the school &amp; distr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Push-In Guidelines:  Please refer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ing Hand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free to email us with any questions, feedback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3 - Track 13.wav" descr=""/>
          <p:cNvPicPr/>
          <p:nvPr/>
        </p:nvPicPr>
        <p:blipFill>
          <a:blip r:embed="rId1"/>
          <a:stretch/>
        </p:blipFill>
        <p:spPr>
          <a:xfrm>
            <a:off x="83818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9:00:27Z</dcterms:created>
  <dc:creator>Barb</dc:creator>
  <dc:description/>
  <dc:language>en-US</dc:language>
  <cp:lastModifiedBy>SASD</cp:lastModifiedBy>
  <dcterms:modified xsi:type="dcterms:W3CDTF">2009-09-10T12:26:53Z</dcterms:modified>
  <cp:revision>59</cp:revision>
  <dc:subject/>
  <dc:title>Team Orientation to C I T E </dc:title>
</cp:coreProperties>
</file>